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11A9-3260-4F06-BF41-3EB290C9648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E581-C90B-43DC-B762-3D12A75E445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8287-1DFB-499F-AD07-A1CE207D53C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A200-BDAC-4B23-8607-90CD280F0E5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3634-397F-41C1-83C5-2A171CFFF4D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80AE-B91F-4EB9-9483-8EBC1EFDB21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46AA-03CA-4DAC-A737-2EE50A18090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4757-C233-4AFE-8406-CAFFFB8B3D6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4BE6-14BE-4F8D-AA02-063F33E1CDF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5F91-A054-4B32-A9BD-199F4A99E47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ACCD-4205-4AC1-AC08-2F5A0A5E6B7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1182-E094-4A38-B09F-F3D245678C7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D8BB-E846-410D-BBCA-99220AA5458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C7B1-923C-4BC9-86F2-E8DF3DF6D15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C32F-327E-438A-A3B2-8BEF760E947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CD03-D607-40CD-8317-A2BC3AC0139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CAE9-4EE7-4B24-8548-4F9D0F99C1C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D2EA-8F05-434A-830E-5CE24A8BE2C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E089-0D50-435E-B4F8-4C7EFE44439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15F6-C62B-446F-840D-4BE219FFA03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1D2D-EFF0-4938-AFD1-5CE77F9C666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0F75-C68C-4ACD-A6B0-068C894D592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74F4-7520-4BD7-8DD4-0DA0B8BAF4F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3EA9-69C6-40F5-B9FE-DCAD7F0900E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6EDE-B5A5-4DE2-AD26-354FC781CF3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735C-817B-49FD-A285-9A0A2695030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BC13-6A41-4356-890B-946CACF8390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4AB7-1EF7-4B78-A4A6-01EB2EB77F9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B1B7-1DF4-49C4-869D-177738FF99C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D67D-4198-4935-9BE9-0487173CB90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5F0E-EA1A-4808-9E9D-2456B460B72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054E-FCDA-4EA6-A96D-87AD742A356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2F50-A62A-49FD-A217-3B02AC3B10D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26BD-5E8C-4982-BA1E-8FE2728D4B6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1848-B351-480E-9853-3BDD30BED07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4475-4B7E-4D01-8CFE-D6DB285F045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ACBA-C3EE-447F-9A5D-5B1BB663608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156F-80DE-43AF-948F-A153D6BD588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1BC5-A772-4422-A166-88A7B43186C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F49F-23D9-4D38-8D16-E41BB0B95FC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4B79-2CAF-46E2-8D68-89CBF73533D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6A0C-F31D-4882-82BF-9EC937BBC60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BFCA-AF9A-4802-87D9-E96F9B4ED58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81EA-7EB2-47CA-B7AD-E9463347A80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3DB6-3051-494A-A194-4330BB7D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825C-9A43-4BD9-9647-B7564086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62CE-021E-4ED0-9EB6-A0C974A7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6E94-973C-4A8C-91E1-94694F1D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E860-865F-4260-A5F7-39B446B4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8FF-0AF4-425C-BA25-BD2378E7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6800-C1D5-4446-A4B3-C5E4EED5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DD19-3019-4122-9383-1AA00F78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A440-1FA5-469F-8EE3-2F0D7B71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D390-D1C2-460F-A130-B4533699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8EFA-8DAF-450F-AAD7-1DE3A6C4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C67-2304-431E-97B6-3AF1266F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1DAF-A3A7-4FC7-BD7B-9F3CCE30869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1052640"/>
            <a:ext cx="8496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ΑΝΟΣΟΑΙΜΑΤΟΛΟΓΙ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ΚΑ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ΟΜΑΔΕΣ ΑΙΜΑΤ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rcRect l="9864" t="11599" r="6182" b="8541"/>
          <a:stretch/>
        </p:blipFill>
        <p:spPr>
          <a:xfrm>
            <a:off x="1143000" y="127080"/>
            <a:ext cx="714384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ΙΤΟΥΡΓΙΑ ΤΩΝ ΑΝΤΙΣΩΜΑΤ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95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Τα αντισώματα συνδέονται με τα αντιγόνα και προκαλούν την καταστροφή τους, με τους ακόλουθους μηχανισμού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5160" indent="-609480">
              <a:spcBef>
                <a:spcPts val="7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νίσχυση της μη ειδικής ανο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5160" indent="-609480">
              <a:spcBef>
                <a:spcPts val="7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Συγκόλλ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5160" indent="-609480">
              <a:spcBef>
                <a:spcPts val="7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ξουδετέρωση - αδρανοποί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ΡΩΤΟΓΕΝΕΙΣ ΑΠΑΝΤΗΣΕΙ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Μετά την 1</a:t>
            </a:r>
            <a:r>
              <a:rPr b="1" lang="el-GR" sz="3200" spc="-1" strike="noStrike" baseline="30000">
                <a:solidFill>
                  <a:srgbClr val="002060"/>
                </a:solidFill>
                <a:latin typeface="Arial"/>
              </a:rPr>
              <a:t>η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έκθεση σε ένα αντιγόνο, η ανοσολογική απάντηση χρειάζεται μερικές εβδομάδες για να αναπτυχθεί. Αυτή ονομάζεται </a:t>
            </a:r>
            <a:r>
              <a:rPr b="1" lang="el-GR" sz="3200" spc="-1" strike="noStrike" u="sng">
                <a:solidFill>
                  <a:srgbClr val="002060"/>
                </a:solidFill>
                <a:uFillTx/>
                <a:latin typeface="Arial"/>
              </a:rPr>
              <a:t>πρωτογενής απάντηση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μφανίζεται σχετικά αργά. Τα αντισώματα αρχικά αυξάνουν και μετά πέφτουν σε χαμηλότερα επίπεδ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Τα παραγόμενα αντισώματα είναι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ΕΥΤΕΡΟΓΕΝΕΙΣ ΑΠΑΝΤΗΣΕΙ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24000" y="119664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Σε κάθε επόμενη έκθεση σε αντιγόνα, η παραγωγή αντισωμάτων είναι ταχύτατη, γιατί υπάρχουν τα κύτταρα μνήμης που οδηγούν σε ταχεία αντίδραση. Αυτή είναι η </a:t>
            </a:r>
            <a:r>
              <a:rPr b="1" lang="el-GR" sz="3000" spc="-1" strike="noStrike" u="sng">
                <a:solidFill>
                  <a:srgbClr val="002060"/>
                </a:solidFill>
                <a:uFillTx/>
                <a:latin typeface="Arial"/>
              </a:rPr>
              <a:t>δευτερογενής απάντηση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α αντισώματα της δευτερογενούς απάντησης είναι 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Ig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Η ενισχυμένη αυτή απάντηση μπορεί να καταστρέψει έναν παθογόνο κύτταρο, πριν προκαλέσει συμπτώματ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ΑΡΑΓΟΝΤΕΣ ΑΝΟΣΟΛΟΓΙΚΗΣ ΑΠΑΝΤΗΣΗ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Η ανοσολογική απάντηση εξαρτάται απ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η δομή του αντιγό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ην ποσότητα του αντιγό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ην οδό εισόδου του αντιγό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η συχνότητα του αντιγόνου στον πληθυσμ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Σημαντικό ρόλο παίζουν τα Η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L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Α μόρια που βρίσκονται στην επιφάνεια όλων των κυττάρω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ΙΔΗ ΑΝΤΙΣΩΜΑΤΩΝ ΣΤΗΝ ΑΝΟΣΟΑΙΜΑΤΟΛΟΓ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cc3300"/>
                </a:solidFill>
                <a:latin typeface="Arial"/>
              </a:rPr>
              <a:t>Φυσικά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l-GR" sz="3000" spc="-1" strike="noStrike">
                <a:solidFill>
                  <a:srgbClr val="cc3300"/>
                </a:solidFill>
                <a:latin typeface="Arial"/>
              </a:rPr>
              <a:t>αντισώματα</a:t>
            </a:r>
            <a:r>
              <a:rPr b="1" lang="el-GR" sz="3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Υπάρχουν στον ορό χωρίς προηγούμενη έκθεση. Π.χ. τα αντισώματα του συστήματος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 ABO. 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Είναι κυρίως 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IgM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cc3300"/>
                </a:solidFill>
                <a:latin typeface="Arial"/>
              </a:rPr>
              <a:t>Ανοσα αντισώματα</a:t>
            </a:r>
            <a:r>
              <a:rPr b="1" lang="el-GR" sz="3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Παράγονται μετά από έκθεση. Είναι κυρίως 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Ig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ΡΥΘΡΟΚΥΤΤΑΡΙΚΗ ΜΕΜΒΡΑΝ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Η ερυθροκυτταρική μεμβράνη αποτελείται από μια διπλοστιβάδα λιπιδίων, με κύρια συστατικά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(α) τα λιπίδια και (β) πρωτεϊνες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α φωσφολιπίδια έχουν διάταξη διπλοστιβάδας με τα υδρόφοβα τμήματα προς τα μέσα και τα υδρόφιλα προς τα έξ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ι πρωτεϊνες είναι διαμεμβρανιακές ή στη μια πλευρά της μεμβράν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ΡΥΘΡΟΚΥΤΤΑΡΙΚΕΣ ΠΡΩΤΕΪΝ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9280" y="1844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05740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πεκτρίν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κτίν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Γλυκοφορίν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ρωτεϊνη 4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ρωτεϊνη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ΡΥΘΡΟΚΥΤΤΑΡΙΚΑ ΑΝΤΙΓΟΝ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ο τμήμα της διαμεμβρανιακής πρωτεϊνης που εξέχει από την μεμβράνη προσδίδει τις αντιγονικές ιδιότητ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ο ερυθρό αιμοσφαίριο, στο στάδιο της ερυθροβλάστης, έχει πολύ μεγάλο αριθμό αντιγόνων. Με την ωρίμανση, ο αριθμός μειώνεται, αλλά παραμένου αρκετ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Υπάρχουν τουλάχιστον 25 συστήματα αντιγόνων, που καθορίζουν τις ομάδες αί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ΟΜΑΔΕΣ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Καθορίζονται από συστήματα αντιγόνων, που επηρεάζουν τις αντιδράσεις μεταξύ των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ερυθρ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ι αντιδράσεις μπορεί να είναι ακόμη και θανατηφόρ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Έχουν μεγάλη σημασία στις μεταγγί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ΟΣΟΑΙΜΑΤΟΛΟΓ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Το ανοσολογικό σύστημ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αναγνωρίζει τα κύτταρα του δικού του οργανισμού και δεν αντιδρά (πλην παθολογικών καταστάσεω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αναγνωρίζει τα κύτταρα άλλων οργανισμών ως ξένα και αντιδρά σ΄ αυτ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ΣΤΗΜΑ ΑΒΟ: 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ΤΙΓΟΝΑ ΣΤΑ ΕΡΥΘΡ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24000" y="169992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spcAft>
                <a:spcPts val="165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Υπάρχουν δύο αντιγόνα: Α και 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ι συνδυασμοί στην παρουσία τους δημιουργούν τέσσερις ομάδε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Κανένα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μάδα Ο         (42,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Μόνο Α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μάδα Α         (42,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Μόνο Β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μάδα Β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Α και Β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μάδα Α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96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ΒΟ: ΑΝΤΙΣΩΜΑΤΑ ΣΤΟ ΠΛΑΣ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το πλάσμα υπάρχουν πάντοτε τα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αντισώματα ενάντια στα αντιγόνα που ΔΕΝ υπάρχουν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τα ερυθροκύτταρ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Ομάδα Ο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-Α και αντι-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Ομάδα Α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-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Ομάδα Β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-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Ομάδα ΑΒ: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κανέ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"/>
          <p:cNvPicPr/>
          <p:nvPr/>
        </p:nvPicPr>
        <p:blipFill>
          <a:blip r:embed="rId1"/>
          <a:srcRect l="0" t="9412" r="0" b="5330"/>
          <a:stretch/>
        </p:blipFill>
        <p:spPr>
          <a:xfrm>
            <a:off x="762120" y="1643040"/>
            <a:ext cx="7619760" cy="4572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755640" y="4906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ΣΤΗΜΑ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ΤΙΓΟΝΟ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ίναι γενετικά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ανεξάρτητο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από το ΑΒ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ποτελεί προϋπόθεση για την ύπαρξη των αντιγόνων   Α και 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πί απουσίας του Η, η δημιουργία των άλλων δύο είναι </a:t>
            </a:r>
            <a:r>
              <a:rPr b="1" lang="el-GR" sz="2400" spc="-1" strike="noStrike" u="sng">
                <a:solidFill>
                  <a:srgbClr val="002060"/>
                </a:solidFill>
                <a:uFillTx/>
                <a:latin typeface="Arial"/>
              </a:rPr>
              <a:t>αδύνατ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ΗΜΑΣΙΑ ΣΤΗΝ ΑΙΜΟΔΟΣ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Όταν συναντηθούν κύτταρα ομάδας Α με αντισώματα αντι-Α, έχουμε αντίδραση και καταστροφή ερυθρ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spcAft>
                <a:spcPts val="1500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a22700"/>
                </a:solidFill>
                <a:latin typeface="Arial"/>
              </a:rPr>
              <a:t>Η ομάδα Ο μπορεί να </a:t>
            </a:r>
            <a:r>
              <a:rPr b="1" lang="el-GR" sz="2400" spc="-1" strike="noStrike" u="sng">
                <a:solidFill>
                  <a:srgbClr val="a22700"/>
                </a:solidFill>
                <a:uFillTx/>
                <a:latin typeface="Arial"/>
              </a:rPr>
              <a:t>δίνει</a:t>
            </a:r>
            <a:r>
              <a:rPr b="1" lang="el-GR" sz="2400" spc="-1" strike="noStrike">
                <a:solidFill>
                  <a:srgbClr val="a22700"/>
                </a:solidFill>
                <a:latin typeface="Arial"/>
              </a:rPr>
              <a:t> αίμα σε όλες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ις ομάδες, γιατί δεν έχει αντιγό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a22700"/>
                </a:solidFill>
                <a:latin typeface="Arial"/>
              </a:rPr>
              <a:t>Η ομάδα ΑΒ μπορεί να </a:t>
            </a:r>
            <a:r>
              <a:rPr b="1" lang="el-GR" sz="2400" spc="-1" strike="noStrike" u="sng">
                <a:solidFill>
                  <a:srgbClr val="a22700"/>
                </a:solidFill>
                <a:uFillTx/>
                <a:latin typeface="Arial"/>
              </a:rPr>
              <a:t>παίρνει</a:t>
            </a:r>
            <a:r>
              <a:rPr b="1" lang="el-GR" sz="2400" spc="-1" strike="noStrike">
                <a:solidFill>
                  <a:srgbClr val="a22700"/>
                </a:solidFill>
                <a:latin typeface="Arial"/>
              </a:rPr>
              <a:t> αίμα από όλες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ις ομάδες, γιατί δεν έχει αντισώ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85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ΓΟΝΙΔΙΑ ΤΟΥ ΣΥΣΤΗΜΑΤΟΣ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Υπάρχουν 3 αλληλόμορφα γονίδια: Α, Β, 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δράζονται στο μακρό σκέλος του χρωμοσώματος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Κληρονομούνται κατά τον αυτόσωμο συνεπικρατούντα χαρακτήρ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2060"/>
                </a:solidFill>
                <a:uFillTx/>
                <a:latin typeface="Arial"/>
              </a:rPr>
              <a:t>ΕΚΦΡΑΣΗ ΤΩΝ ΓΟΝΙΔΙ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α γονίδια Α και Β </a:t>
            </a:r>
            <a:r>
              <a:rPr b="1" lang="el-GR" sz="2400" spc="-1" strike="noStrike" u="sng">
                <a:solidFill>
                  <a:srgbClr val="002060"/>
                </a:solidFill>
                <a:uFillTx/>
                <a:latin typeface="Arial"/>
              </a:rPr>
              <a:t>δεν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παράγουν απευθείας τα αντιγόνα Α και Β, αλλ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αράγουν δύ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o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ένζυμα, τις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τρανσφεράσες Α και Β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που ευθύνονται για τη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μετατροπή του αντιγόνου Η σε Α και Β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αντίστοιχ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ο γονίδιο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Ο δεν παράγει ένζυμο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και έτσι υπάρχει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μόνο Η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γόν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ΦΑΙΝΟΤΥΠΟΣ ΚΑΙ ΓΟΝΟΤΥΠΟΣ ΤΟΥ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1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39640" y="2109960"/>
            <a:ext cx="78343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ΥΠΟΟΜΑΔΕΣ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23640" y="1773360"/>
            <a:ext cx="83516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Η ομάδα Α αποτελείται από τις υποομάδες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... 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x</a:t>
            </a:r>
            <a:r>
              <a:rPr b="1" lang="el-GR" sz="2400" spc="-1" strike="noStrike" baseline="-25000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με κυριότερες τις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1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και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Η ομάδα Β έχει επίσης υποομάδες, αλλά λιγότερ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Η ομάδα ΑΒ παρουσιάζει υποομάδες ανάλογα με τις υποομάδες των Α και Β που την αποτελού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ΧΝΟΤΗΤΑ ΟΜΑΔΩΝ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195280" y="1773360"/>
            <a:ext cx="662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2060"/>
                </a:solidFill>
                <a:latin typeface="Arial"/>
              </a:rPr>
              <a:t>1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3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Β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1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2060"/>
                </a:solidFill>
                <a:latin typeface="Arial"/>
              </a:rPr>
              <a:t>1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Β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Ο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4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5 - Δεξιό άγκιστρο"/>
          <p:cNvSpPr/>
          <p:nvPr/>
        </p:nvSpPr>
        <p:spPr>
          <a:xfrm>
            <a:off x="3564000" y="4005360"/>
            <a:ext cx="71280" cy="792000"/>
          </a:xfrm>
          <a:custGeom>
            <a:avLst/>
            <a:gdLst>
              <a:gd name="textAreaLeft" fmla="*/ 0 w 71280"/>
              <a:gd name="textAreaRight" fmla="*/ 25560 w 71280"/>
              <a:gd name="textAreaTop" fmla="*/ 1800 h 792000"/>
              <a:gd name="textAreaBottom" fmla="*/ 790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16200" y="10800"/>
                  <a:pt x="21600" y="10800"/>
                </a:cubicBezTo>
                <a:cubicBezTo>
                  <a:pt x="162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d2d8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ΡΟΣΔΙΟΡΙΣΜΟΣ ΟΜΑΔΩΝ ΑΙΜΑΤΟΣ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Προσδιορισμός ερυθροκυτταρικών αντιγόνων Α και Β σε πλάκ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Χρησιμοποιούνται γνωστοί αντιορο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αντι-Α, αντι-Β αντι-Α,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Προσδιορισμός αντισωμάτων αντι-Α και αντι-Β στον ορ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Χρησιμοποιείται εναιώρημα γνωστ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ερυθροκυττάρων ομάδων Α, Β, 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ΑΓΝΩΡΙΣΗ ΞΕΝΩΝ ΚΥΤΤΑΡ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Η αναγνώριση βασίζεται σε ειδικά μόρια που βρίσκονται στην επιφάνεια των κυττάρων, </a:t>
            </a:r>
            <a:r>
              <a:rPr b="1" lang="el-GR" sz="3200" spc="-1" strike="noStrike">
                <a:solidFill>
                  <a:srgbClr val="ff0000"/>
                </a:solidFill>
                <a:latin typeface="Arial"/>
              </a:rPr>
              <a:t>τα αντιγόνα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rial"/>
              </a:rPr>
              <a:t>Αντιγόνο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ίναι κάθε ουσία που όταν εισέλθει στον οργανισμό προκαλεί ανοσολογική απάντηση. Είναι συνήθως σύνθετες πρωτεϊνες, ο αριθμός των οποίων είναι εξαιρετικά μεγάλ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16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ΡΟΣΔΙΟΡΙΣΜΟΣ ΟΜΑΔΩΝ ΑΙΜΑΤΟΣ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34356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ΑΡΑΓΟΝΤΑΣ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H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ο αίμα μπορεί να είναι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θετικό ή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αρνητικ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υτό εξαρτάται από την ύπαρξη του </a:t>
            </a:r>
            <a:r>
              <a:rPr b="1" lang="el-GR" sz="2400" spc="-1" strike="noStrike" u="sng">
                <a:solidFill>
                  <a:srgbClr val="ff0000"/>
                </a:solidFill>
                <a:uFillTx/>
                <a:latin typeface="Arial"/>
              </a:rPr>
              <a:t>αντιγόνου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he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Υπάρχουν 3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C, D, E (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υχνότερο το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D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85% των Ευρωπαίων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θετικο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ΤΙΣΩΜΑΤΑ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H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Φυσικά αντισώματα αντι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2400" spc="-1" strike="noStrike" u="sng">
                <a:solidFill>
                  <a:srgbClr val="ff0000"/>
                </a:solidFill>
                <a:uFillTx/>
                <a:latin typeface="Arial"/>
              </a:rPr>
              <a:t>δεν υπάρχου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ρα, σε μια πρώτη μετάγγιση δεν μπορεί να υπάρξει συγκόλληση και αιμόλυ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ff0000"/>
                </a:solidFill>
                <a:uFillTx/>
                <a:latin typeface="Arial"/>
              </a:rPr>
              <a:t>Μπορεί όμως να υπάρξει ευαισθητοποίηση και παραγωγή άνοσων αντι-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hesus</a:t>
            </a:r>
            <a:r>
              <a:rPr b="1" lang="el-GR" sz="2400" spc="-1" strike="noStrike" u="sng">
                <a:solidFill>
                  <a:srgbClr val="ff0000"/>
                </a:solidFill>
                <a:uFillTx/>
                <a:latin typeface="Arial"/>
              </a:rPr>
              <a:t> αντισωμάτων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πότε μπορεί να υπάρξει αντίδραση σε δεύτερη μετάγγι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ΥΑΙΣΘΗΤΟΠΟΙΗΣΗ ΣΤΟΝ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H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υαισθητοποίηση στον παράγοντ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μπορεί να υπάρξει και κατά τον τοκετό (όχι στην κύηση), όταν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αρνητική μητέρα γεννά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θετικό παιδ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ε επόμενη κύηση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 θετικού παιδιού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, μπορεί να υπάρξει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αιμόλυση στο έμβρυο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, ίκτερος και απειλή της ζωής τ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Για την αποφυγή της ευαισθητοποίησης, χορηγούνται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στις αρνητικές μητέρες αντι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σώματα μετά τον τοκετ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ΑΛΛΑ ΑΝΤΙΓΟΝΙΚΑ ΣΥΣΤΗΜΑΤ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Σήμερα είναι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αγνωρισμένα 308 αντιγό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270 αντιγόνα έχουν ταξινομηθεί σε 30 διακεκριμένες ομάδες αίματος από την ομάδα ISBT (International Society of Blood Transfusion) η οποία είναι υπεύθυνη για τον καθορισμό των επιφανειακών αντιγόνων των ερυθρ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38 αντιγόνα δεν έχουν τυποποιηθεί σε κάποιο σύστημ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ΛΛΑ ΑΝΤΙΓΟΝΙΚΑ ΣΥΣΤΗΜΑΤ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712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γόν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ell (25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γόν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Duffy (2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λληλόμορφα γονίδι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, b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idd (2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λληλόμορφα γονίδι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, b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Lewis (2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λληλόμορφα γονίδι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, b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ΜΝ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Luthe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Χ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g 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κ.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ΑΝΤΙΓΟΝΙΚΑ ΣΥΣΤΗΜΑΤΑ ΣΤΟ ΑΙΜ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F:\TEI-Λ\ΑΙΜΟΔΟΣΙΑ\imagemap.gif"/>
          <p:cNvPicPr/>
          <p:nvPr/>
        </p:nvPicPr>
        <p:blipFill>
          <a:blip r:embed="rId1"/>
          <a:stretch/>
        </p:blipFill>
        <p:spPr>
          <a:xfrm>
            <a:off x="1619280" y="1874880"/>
            <a:ext cx="55339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ΜΕΤΑΓΓΙΣΕΙΣ ΚΑΙ 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ΤΙΔΡΑΣΕΙΣ ΑΣΥΜΒΑΤΟΤΗΤΑ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α αντισώματα που υπάρχουν στον ορό του δότη δεν προκαλούν πρόβλημα, γιατί θα αραιωθού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ε ασθενή με άγνωστη ομάδα αίματο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ίμα 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-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χορηγείται μόνο αν απειλείται η ζωή το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ε όλες τις άλλες περιπτώσεις, επιδιώκεται η χορήγηση ίδιας ομάδας αί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ΟΤΕΣ ΚΑΙ ΔΕΚΤΕΣ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531800" y="1844640"/>
            <a:ext cx="577692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ΚΥΤΤΑΡΑ ΤΟΥ ΑΝΟΣΟΠΟΙΗΤΙΚΟΥ ΣΥΣΤΗ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6600" indent="-5144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rial"/>
              </a:rPr>
              <a:t>Φαγ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Πολυμορφοπύρην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Μονοπύρην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rial"/>
              </a:rPr>
              <a:t>2. Λεμφ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Β λεμφοκύτταρα  → Χυμική ανο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Τ λεμφοκύτταρα 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→ Κυτταρική ανο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ΛΕΓΧΟΣ ΑΣΥΜΒΑΤΟΤΗΤΑΣ: ΔΙΑΣΤΑΥΡΩΣ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α) Κύτταρα του δότη αναμειγνύονται με πλάσμα του δέκτη  κα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β) κύτταρα του δέκτη με πλάσμα του δότ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Δεν πρέπει να υπάρχει συγκόλληση σε καμία από τις 2 περιπτώ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341360" y="2205000"/>
            <a:ext cx="632628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ΕΛΕΓΧΟΣ ΟΜΑΔΩΝ ΑΙΜΑΤ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F:\TEI-Λ\ΑΙΜΟΔΟΣΙΑ\bloodchart.gif"/>
          <p:cNvPicPr/>
          <p:nvPr/>
        </p:nvPicPr>
        <p:blipFill>
          <a:blip r:embed="rId1"/>
          <a:stretch/>
        </p:blipFill>
        <p:spPr>
          <a:xfrm>
            <a:off x="2484360" y="1658880"/>
            <a:ext cx="3959280" cy="4830840"/>
          </a:xfrm>
          <a:prstGeom prst="rect">
            <a:avLst/>
          </a:prstGeom>
          <a:ln w="0">
            <a:noFill/>
          </a:ln>
        </p:spPr>
      </p:pic>
      <p:sp>
        <p:nvSpPr>
          <p:cNvPr id="136" name="Ορθογώνιο 1"/>
          <p:cNvSpPr/>
          <p:nvPr/>
        </p:nvSpPr>
        <p:spPr>
          <a:xfrm>
            <a:off x="2340000" y="2421000"/>
            <a:ext cx="1295280" cy="388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ΕΛΕΓΧΟΣ ΟΜΑΔΩΝ ΑΙΜΑΤ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F:\TEI-Λ\ΑΙΜΟΔΟΣΙΑ\bloodchart.gif"/>
          <p:cNvPicPr/>
          <p:nvPr/>
        </p:nvPicPr>
        <p:blipFill>
          <a:blip r:embed="rId1"/>
          <a:stretch/>
        </p:blipFill>
        <p:spPr>
          <a:xfrm>
            <a:off x="2484360" y="1658880"/>
            <a:ext cx="395928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ΧΥΜΙΚΗ ΑΝΟΣΙΑ - ΑΝΤΙΣΩΜΑΤ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1800" indent="-2696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Η χυμική ανοσία βασίζεται στα αντισώματ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1800" indent="-2696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α αντισώματα είναι πρωτεϊνες (ανοσοσφαιρίνες, γ-σφαιρίνε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1800" indent="-2696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α αντισώματα παράγονται από τα 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πλασματοκύτταρα</a:t>
            </a:r>
            <a:r>
              <a:rPr b="1" lang="el-GR" sz="3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που είναι η τελική μορφή της εξέλιξης των Β λεμφοκυττάρω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1800" indent="-2696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Κύριο γνώρισμα των αντισωμάτων: η 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ειδικότητ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ΟΜΗ ΤΩΝ ΑΝΤΙΣΩΜΑΤ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ίναι πρωτεϊνες γνωστές ως γ-σφαιρίνες ή ανοσοσφαιρίνες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(I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Αποτελούνται από 2 βαριές και 2 ελαφρές αλύσους σε σχήμα 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Μονομερές αντίσωμα: Με ένα Υ ( 2 θέσει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Διμερές αντίσωμα (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IgA)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: Με δύο 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Πενταμερές αντίσωμα: (Ι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gM)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: Με 5 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667640" y="4581360"/>
            <a:ext cx="333360" cy="54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7885080" y="5084640"/>
            <a:ext cx="78120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ΟΜΗ ΤΩΝ ΑΝΤΙΣΩΜΑΤ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Η περιοχή που γίνεται η δέσμευση είναι η μεταβλητή περιοχή του αντισώματος, που μεταβάλλεται αναλόγως της ειδικότητας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ο υπόλοιπο τμήμα δεν μεταβάλλεται όταν μεταβάλλεται η ειδικότητ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Η διάσπαση των αντισωμάτων με ένζυμα δίνει 2 τμήματα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ο τμήμα που συνδέεται με το αντιγόνο</a:t>
            </a:r>
            <a:r>
              <a:rPr b="1" lang="el-GR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Fab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l-GR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και το κρυσταλλικό τμήμα 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Fc)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79280" y="260280"/>
            <a:ext cx="8785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ΟΜΗ ΤΩΝ ΑΝΤΙΣΩΜΑΤ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124000" y="1090440"/>
            <a:ext cx="532764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ΕΙΔΗ ΑΝΤΙΣΩΜΑΤ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gG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ίναι οι πιο άφθονες ανοσοσφαιρίνες στο αίμα. Παράγονται σε μεγάλες ποσότητες κατά τη δευτερογενή απάντηση. Διευκολύνουν τη φαγοκυττάρωση και τη λύση των κυττάρ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gM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ίναι πενταμερή μόρια που εκκρίνονται πρώιμα. Διευκολύνουν τη συγκόλληση, τη φαγοκυττάρωση και την λύση των κυττάρ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gD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ίναι αντισώματα επιφανείας των λεμφοκυττάρων, με άγνωστο ρόλ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gA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Διμερή μόρια, που βρίσκονται στις εκκρίσεις σάλιου, δακρύων και γάλατο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gE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Παίζουν ρόλο στις παρασιτικές λοιμώξεις. Διεγείρουν την παραγωγή βραδυκινίνης, ισταμίνης και άλλων φλεγμονωδών μεσολαβητ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6:00:50Z</dcterms:created>
  <dc:creator>a</dc:creator>
  <dc:description/>
  <dc:language>en-US</dc:language>
  <cp:lastModifiedBy>TEI LARISA</cp:lastModifiedBy>
  <dcterms:modified xsi:type="dcterms:W3CDTF">2013-04-10T11:05:06Z</dcterms:modified>
  <cp:revision>70</cp:revision>
  <dc:subject/>
  <dc:title>ΗΛΕΚΤΡΙΚΑ ΣΗΜΑΤΑ ΚΑΙ ΔΙΕΓΕΡΣΙΜΑ ΚΥΤΤΑΡΑ</dc:title>
</cp:coreProperties>
</file>